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E7B5-FEB8-4C91-A6D7-1738EB08B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57B5-A77C-4BA1-A2FE-E11BDBA6260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86D-F3E1-4AD1-B78D-35B35101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BBBD-94AE-4B47-8214-76442CC8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E0F-E906-4480-87CD-58B0C262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F30-93FF-48B0-86C7-792E5EF3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87FE-3895-44B3-ABC1-B646C147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4392-50E5-4AB4-8CAE-72E603D2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6571-35A0-4AF0-A04D-2990385D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8D5E-5668-453A-AC08-44F0C38F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0472-5A30-46B4-A512-4022DDD8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1B49-1A72-4F2A-9723-80B92E29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2ADA-024F-4B5F-A6AE-7CE7E906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AB5-CEB3-408D-94C2-4668463D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6319-E463-482D-AD54-1E4B98F9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4183-9857-4766-BF8A-7A7E9BDB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A3FB-2E6B-4B30-8BC4-6155A5FB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A5C9-91E2-42A3-9F6D-4BB78AB3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E896-08F1-48AD-9646-7A532D0A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CFC03-7F94-4C7E-85A5-290A52D6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A7235-F52F-49BA-9375-626CE0FF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3B8A7-55F5-4CD6-B694-5B8581BC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AEC35-0EDE-4D10-A1FC-51E00BE4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D2FCF-207D-4675-A0BA-78A88055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DD4-A12D-4222-A797-69B06E6A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11307-8AF0-48C1-AC90-7A567082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91FC9-66E2-40DF-AC27-326CFB00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F5B05-3902-41AA-9196-29852355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571BE-9D83-4CD7-9564-88F1D5CD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8C4A8-09F5-4602-8526-A9F6EF21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C91BB-86E6-43C3-8779-5F29DFC6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E0D87-1650-417A-AC04-3B80F832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1149B-F846-4C35-AF96-3E499C17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E6DE8-54BE-4801-8898-685CD8D2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677A8-6AD6-4F6D-82EF-BD006C97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56D-DBF5-47ED-8675-56DFE67C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FE19B-DA55-415F-A69C-FF1E87B8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A9BC4-92ED-4B94-A0E6-E9C08BBB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CE5B6-1655-4B8E-BAF2-2AB9756D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D4129-088E-4D05-B12F-1AC392B4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B971-C21E-4FA7-9502-2DDFF490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74C16-A979-4F5D-8223-96A50DD6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B28F8-15C5-439A-A8C1-026688F9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74AB8-C34E-4603-AED9-E9F909AB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75AA4-9AD6-4807-8E20-1F286FB6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9B839-9D1B-4D52-AE49-659DF6DB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1BE6-A445-4279-86B0-9E5933EF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BFF9D-AB03-43DA-B7C2-3711263B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B079F-082C-4062-973E-C3BBFF04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65795-4CB9-443F-82C5-AEFE2E95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D6083-E941-48DA-813F-F881370A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7FA6D-FCA4-4683-8242-B3DF17D0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D77DA-B2F5-45D6-9F08-9CDF568B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90B25-AA59-4FA5-8ED4-97178274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E2086-EF9C-4717-ABB8-880C64FE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47066-52E7-4A0A-8834-6985F8F6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25B3A-7824-41FB-8A45-89BB6829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89A-1F8B-4E10-A6B2-02E6861D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5563A-DF59-4067-9BFB-CDBC6478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71AF2-3991-443F-B678-673FBB4D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33FBA-5A59-44B0-922D-9BB89626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05946-1347-4C3F-A1CB-C950BCFA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4E103-C1ED-4B7A-9268-73EAFCA3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6BBEC-EB5E-4B65-8979-9C60BC8E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5AB62-F57A-4F7D-9EE5-EAC84535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6162B-9AC7-450C-BA25-1B33C36A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AD6F6-A10D-49AA-8C6B-65C6E093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073B8-488B-4C76-B83B-EB728E2C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065-7AC3-45C7-A69E-3CE45011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5F510-92D9-45C7-AAF8-AEE5837E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5E08A-D870-40B1-AA69-5A8566F8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6A592-D49F-49D9-BB84-619B6DD5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704BF-1049-491B-B926-990C66FB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6ED28-43DC-4D46-A2E3-822E25D9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8F7E9-9ADA-4679-ADFD-F8F9E32A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496FD-185D-4DD2-AF29-939D5A83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5035C-D1D8-4137-B3DE-894430BF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48016-2359-4B2F-B38F-D223EAB1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9CE47-9079-43FA-B438-F828F9BC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5B9-476F-4C89-873F-87354921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E9CF0-E977-4D19-BE1F-D7D5A08D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E1714-DDF4-4655-B42C-77732D59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7AB5F-01C7-4613-A4AB-F142F537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2C69A-D627-43B0-8DF5-58DEB67B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B59D7-14E7-4AB3-A188-D819133C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FFA-11DD-45A0-8FFE-E0928E41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2501-5632-4BF4-BF12-DC91593DD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627D-B37F-4F9F-AC14-9D2D1B85E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1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1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2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7731-2D56-45D4-AC04-A9F73B0B73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FF3F-A76E-4A13-ACAE-97A0AD3BA9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44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8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9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0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1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2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8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9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0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2AC2-EF2E-4033-B7C9-42176C99C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04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5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6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7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8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9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6B39-8EA5-4BAC-9AFE-E0EF83737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5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5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67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8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1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4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6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7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8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3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9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0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3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4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5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6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8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0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1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6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7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8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3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4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19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4265-A2A3-4869-8D09-427D8049360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SCIENT ENGINEERING COLLEGE</a:t>
            </a: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PARTMENT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FORMATION TECHNOLOG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-Tech ¾   SEM I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ED traffic signals which controls traffic as well as speed of the vehicles using sensor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68" name="Picture 4" descr="LED traffic lights in Örnsköldsvik, Sweden."/>
          <p:cNvPicPr/>
          <p:nvPr/>
        </p:nvPicPr>
        <p:blipFill>
          <a:blip r:embed="rId1"/>
          <a:stretch/>
        </p:blipFill>
        <p:spPr>
          <a:xfrm>
            <a:off x="838080" y="27432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700" spc="-1" strike="noStrike">
                <a:solidFill>
                  <a:srgbClr val="000099"/>
                </a:solidFill>
                <a:latin typeface="Script MT Bold"/>
              </a:rPr>
              <a:t>   </a:t>
            </a:r>
            <a:r>
              <a:rPr b="0" i="1" lang="en-US" sz="4700" spc="-1" strike="noStrike">
                <a:solidFill>
                  <a:srgbClr val="000099"/>
                </a:solidFill>
                <a:latin typeface="Script MT Bold"/>
              </a:rPr>
              <a:t>Vote Of Thanks</a:t>
            </a:r>
            <a:br>
              <a:rPr sz="3500"/>
            </a:br>
            <a:endParaRPr b="1" lang="en-US" sz="4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066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aiandra GD"/>
              </a:rPr>
              <a:t>We are very much thankful to our guide and the supporting staff members for helping us to complete our project that’s free of error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Maiandra GD"/>
              </a:rPr>
              <a:t>We have come out with immense satisfaction that helped us to discover something special in us which would not have been possible without this projec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WordArt 5"/>
          <p:cNvSpPr txBox="1"/>
          <p:nvPr/>
        </p:nvSpPr>
        <p:spPr>
          <a:xfrm>
            <a:off x="1295280" y="1981080"/>
            <a:ext cx="63248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Pristina"/>
              </a:rPr>
              <a:t>Thank U :-)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Pristina"/>
              <a:ea typeface="Pristi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9d9ff"/>
                </a:solidFill>
                <a:latin typeface="Copperplate Gothic Bold"/>
              </a:rPr>
              <a:t>TRAFFIC  SIGNAL  MANAGEMENT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ffic Signal Management is the design of  a traffic signal which controls the traff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ject “Traffic Signal Management” facilitates  easy control of heavy traffic which uses three lights :Red, Yellow and Gre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lights used to indicate the signaling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 flashing RED light indicates STO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ELLOW indicates BE READY and last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REEN  indicates G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56" name="Picture 4" descr="A demonstration of a traffic light, showing Red, for stop Yellow, (stop ahead) for slow down  and Green for go."/>
          <p:cNvPicPr/>
          <p:nvPr/>
        </p:nvPicPr>
        <p:blipFill>
          <a:blip r:embed="rId1"/>
          <a:stretch/>
        </p:blipFill>
        <p:spPr>
          <a:xfrm>
            <a:off x="1676520" y="3200400"/>
            <a:ext cx="5181480" cy="327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PE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s changes automatically at regular intervals of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task is done by using separate variables for each l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ly, RED light appears for 21 seconds ie, it appears from count equal to 25 to 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when count becomes 3 RED automatically changes to YELLOW  and it glows for 4 seconds i.e, up to count becomes 0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en count becomes 0,light changes automatically to GREEN and it glows for 25 second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s process is continued for easy flow of traffi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Pristina"/>
              </a:rPr>
              <a:t>Green signal</a:t>
            </a:r>
            <a:endParaRPr b="1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61" name="Picture 4" descr="green"/>
          <p:cNvPicPr/>
          <p:nvPr/>
        </p:nvPicPr>
        <p:blipFill>
          <a:blip r:embed="rId1"/>
          <a:stretch/>
        </p:blipFill>
        <p:spPr>
          <a:xfrm>
            <a:off x="1219320" y="1170000"/>
            <a:ext cx="7238880" cy="568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US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main crux of this project is to reduce the traffic jams at heavy traffic junction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ights glowing at regular intervals of time facilitates easy flow and control of the traffi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dvantage for people crossing roads through pedestrian crossing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e can also improve this project by adding additional features like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edestrian crossing light with loudspeaker for blind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66" name="Picture 6" descr="Pedestrian crossing light with loudspeaker for the blind."/>
          <p:cNvPicPr/>
          <p:nvPr/>
        </p:nvPicPr>
        <p:blipFill>
          <a:blip r:embed="rId1"/>
          <a:stretch/>
        </p:blipFill>
        <p:spPr>
          <a:xfrm>
            <a:off x="4572000" y="4572000"/>
            <a:ext cx="2857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4:10:07Z</dcterms:created>
  <dc:creator>rakesh</dc:creator>
  <dc:description/>
  <dc:language>en-US</dc:language>
  <cp:lastModifiedBy>Brigade</cp:lastModifiedBy>
  <dcterms:modified xsi:type="dcterms:W3CDTF">2011-09-05T18:54:01Z</dcterms:modified>
  <cp:revision>33</cp:revision>
  <dc:subject/>
  <dc:title>MVSR ENGINEERING COLLEGE</dc:title>
</cp:coreProperties>
</file>