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F4CF-D7E1-4AC8-AFA4-62C867F83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7BC8-5FD1-460B-9B86-B79C93358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129D-9F75-4DB0-BE5A-69F869AF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64D-56A3-44C4-B8C5-E5AFCAA6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4A5-AA51-48EC-AB7E-56C51F70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045-08C0-447E-95C7-2A17531A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502-7A6D-4118-92DE-07B180B2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3B9-8260-4FD9-BECE-00BB278A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B44-2B55-425B-A5E4-5B4F436D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ACD-F012-46D3-B960-FF7AC17A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F33-189C-4559-8B45-6DD9AC0D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9B3A-5E85-4AF7-AB0F-AA068CCC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36C-2302-494A-AF6D-BA0A69D7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25C-360E-4E27-B732-555E368B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D0D0-EF0B-46D8-90E3-4DEF9CCD3B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Communication M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7617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 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DFD for Ser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22"/>
          <p:cNvGrpSpPr/>
          <p:nvPr/>
        </p:nvGrpSpPr>
        <p:grpSpPr>
          <a:xfrm>
            <a:off x="1279440" y="2724120"/>
            <a:ext cx="4846680" cy="3474720"/>
            <a:chOff x="1279440" y="2724120"/>
            <a:chExt cx="4846680" cy="3474720"/>
          </a:xfrm>
        </p:grpSpPr>
        <p:sp>
          <p:nvSpPr>
            <p:cNvPr id="77" name="Oval 23"/>
            <p:cNvSpPr/>
            <p:nvPr/>
          </p:nvSpPr>
          <p:spPr>
            <a:xfrm>
              <a:off x="4663080" y="4808160"/>
              <a:ext cx="1188720" cy="128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Delete persons from confer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24"/>
            <p:cNvSpPr/>
            <p:nvPr/>
          </p:nvSpPr>
          <p:spPr>
            <a:xfrm>
              <a:off x="1279440" y="3234600"/>
              <a:ext cx="914400" cy="3657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5"/>
            <p:cNvSpPr/>
            <p:nvPr/>
          </p:nvSpPr>
          <p:spPr>
            <a:xfrm>
              <a:off x="2193840" y="3417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6"/>
            <p:cNvSpPr/>
            <p:nvPr/>
          </p:nvSpPr>
          <p:spPr>
            <a:xfrm>
              <a:off x="3108240" y="2998440"/>
              <a:ext cx="1097280" cy="109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Get Employee Detai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27"/>
            <p:cNvSpPr/>
            <p:nvPr/>
          </p:nvSpPr>
          <p:spPr>
            <a:xfrm>
              <a:off x="5120280" y="2724120"/>
              <a:ext cx="1005840" cy="457200"/>
            </a:xfrm>
            <a:prstGeom prst="flowChartInternal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Nec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8"/>
            <p:cNvSpPr/>
            <p:nvPr/>
          </p:nvSpPr>
          <p:spPr>
            <a:xfrm>
              <a:off x="1919520" y="482724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Add persomns to confer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9"/>
            <p:cNvSpPr/>
            <p:nvPr/>
          </p:nvSpPr>
          <p:spPr>
            <a:xfrm flipH="1">
              <a:off x="2651040" y="4004280"/>
              <a:ext cx="640080" cy="82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0"/>
            <p:cNvSpPr/>
            <p:nvPr/>
          </p:nvSpPr>
          <p:spPr>
            <a:xfrm>
              <a:off x="4022640" y="3985200"/>
              <a:ext cx="822960" cy="10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1"/>
            <p:cNvSpPr/>
            <p:nvPr/>
          </p:nvSpPr>
          <p:spPr>
            <a:xfrm flipH="1">
              <a:off x="4205520" y="29070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DFD for Cl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1371600" y="2212920"/>
            <a:ext cx="5761080" cy="4645080"/>
            <a:chOff x="1371600" y="2212920"/>
            <a:chExt cx="5761080" cy="4645080"/>
          </a:xfrm>
        </p:grpSpPr>
        <p:sp>
          <p:nvSpPr>
            <p:cNvPr id="88" name="Rectangle 3"/>
            <p:cNvSpPr/>
            <p:nvPr/>
          </p:nvSpPr>
          <p:spPr>
            <a:xfrm>
              <a:off x="1371600" y="2487240"/>
              <a:ext cx="1097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"/>
            <p:cNvSpPr/>
            <p:nvPr/>
          </p:nvSpPr>
          <p:spPr>
            <a:xfrm>
              <a:off x="2468880" y="2761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"/>
            <p:cNvSpPr/>
            <p:nvPr/>
          </p:nvSpPr>
          <p:spPr>
            <a:xfrm>
              <a:off x="3383280" y="2212920"/>
              <a:ext cx="1097280" cy="109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Entry check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"/>
            <p:cNvSpPr/>
            <p:nvPr/>
          </p:nvSpPr>
          <p:spPr>
            <a:xfrm>
              <a:off x="3931920" y="3310200"/>
              <a:ext cx="0" cy="73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7"/>
            <p:cNvSpPr/>
            <p:nvPr/>
          </p:nvSpPr>
          <p:spPr>
            <a:xfrm>
              <a:off x="3383280" y="4042080"/>
              <a:ext cx="1280160" cy="118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Getting conference list from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663440" y="457092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"/>
            <p:cNvSpPr/>
            <p:nvPr/>
          </p:nvSpPr>
          <p:spPr>
            <a:xfrm>
              <a:off x="5395320" y="4114080"/>
              <a:ext cx="1005840" cy="118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Taking Part in confer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4572000" y="594360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nd ma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6218280" y="5943600"/>
              <a:ext cx="914400" cy="82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ceive ma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 flipH="1">
              <a:off x="5029560" y="5303160"/>
              <a:ext cx="64008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 flipH="1" flipV="1">
              <a:off x="6035400" y="5303160"/>
              <a:ext cx="45720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1828800"/>
          <a:ext cx="6629400" cy="251460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1326960"/>
                <a:gridCol w="1325520"/>
                <a:gridCol w="1325520"/>
              </a:tblGrid>
              <a:tr h="819000"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2430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4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12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30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12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4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30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12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3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30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2666880" y="12952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ess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CLIENT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1600" y="3200400"/>
          <a:ext cx="6172200" cy="2922480"/>
        </p:xfrm>
        <a:graphic>
          <a:graphicData uri="http://schemas.openxmlformats.org/drawingml/2006/table">
            <a:tbl>
              <a:tblPr/>
              <a:tblGrid>
                <a:gridCol w="1235160"/>
                <a:gridCol w="1233360"/>
                <a:gridCol w="1235160"/>
                <a:gridCol w="1233360"/>
                <a:gridCol w="1235160"/>
              </a:tblGrid>
              <a:tr h="1338120"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3970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952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OM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952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OFLO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967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OFLO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4"/>
          <p:cNvSpPr/>
          <p:nvPr/>
        </p:nvSpPr>
        <p:spPr>
          <a:xfrm>
            <a:off x="2362320" y="2057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EMPLOYEE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2678040"/>
          <a:ext cx="6096240" cy="15019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605880"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_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92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2666880" y="1752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ROOM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2857680"/>
          <a:ext cx="6096240" cy="11430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605880"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OM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92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209680" y="1676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om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USER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2830680"/>
          <a:ext cx="6096240" cy="37224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31560">
                <a:tc gridSpan="5"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d09c32"/>
                      </a:solidFill>
                    </a:lnB>
                    <a:solidFill>
                      <a:srgbClr val="efe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8920"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6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R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5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3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31560">
                <a:tc gridSpan="5"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00319c"/>
                      </a:solidFill>
                    </a:lnL>
                    <a:lnR w="4320">
                      <a:solidFill>
                        <a:srgbClr val="00319c"/>
                      </a:solidFill>
                    </a:lnR>
                    <a:lnT w="4320">
                      <a:solidFill>
                        <a:srgbClr val="00319c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20329c"/>
                      </a:solidFill>
                    </a:lnL>
                    <a:lnR w="4320">
                      <a:solidFill>
                        <a:srgbClr val="d0359c"/>
                      </a:solidFill>
                    </a:lnR>
                    <a:lnT w="4320">
                      <a:solidFill>
                        <a:srgbClr val="20329c"/>
                      </a:solidFill>
                    </a:lnT>
                    <a:lnB w="4320">
                      <a:solidFill>
                        <a:srgbClr val="2032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359c"/>
                      </a:solidFill>
                    </a:lnL>
                    <a:lnR w="4320">
                      <a:solidFill>
                        <a:srgbClr val="d0359c"/>
                      </a:solidFill>
                    </a:lnR>
                    <a:lnT w="4320">
                      <a:solidFill>
                        <a:srgbClr val="d0359c"/>
                      </a:solidFill>
                    </a:lnT>
                    <a:lnB w="4320">
                      <a:solidFill>
                        <a:srgbClr val="d035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0359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319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319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319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2590920" y="1752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Scre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ADMIN LO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ADMINIST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Abs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ing the communication with all persons of the same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WELCOM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MMMMMMMMMMMMMMMMMMMMMMMMMMMMMMMMMMMMMMMMMMMMMMMMMMMMMMMMMMMMMMMMMMMMMMMMMMMMMMMMMMMMMMMM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92160" y="1017720"/>
            <a:ext cx="7389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SCOPE FOR THE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Over a period of  time the Global communication project can be implemented to provide au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It can be implemented to provide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The objective of this project is to conduct conferences  on the Internet or Intr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GOWTHAM(07D01A0517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.KALYANI RAMU(07D01A0520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VAMSHI KRISHNA(07D01A0553)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PARTS OF GLOBAL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 conferen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nches throughout the 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Mod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Adm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Edit, and Delete Conference Ro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, Edit, and Delete Us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ator Privile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and Delete Message Arch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Statisti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 Us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Regist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Messa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s all Users in Conference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profi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Software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ver Operation Syste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dows 2000 Professi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ent Operating Syste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dows 2000 Professi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Use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2sdk1.4.2_04, Internet Explorer 5.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b server Use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mcat 5.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nguages Use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SP, Servlets, JDBC, Java Script, CSS and HTM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bas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acle 8i (8.1.5.0.0)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Hardware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TIUM IV 2.4GHz, With Dual Proc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8MB 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6 KB EXTERNAL CACHE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GB HARD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9899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7b9899"/>
                </a:solidFill>
                <a:latin typeface="Calibri"/>
              </a:rPr>
              <a:t>Architectural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2"/>
          <p:cNvGrpSpPr/>
          <p:nvPr/>
        </p:nvGrpSpPr>
        <p:grpSpPr>
          <a:xfrm>
            <a:off x="1706400" y="3608280"/>
            <a:ext cx="4846680" cy="1973520"/>
            <a:chOff x="1706400" y="3608280"/>
            <a:chExt cx="4846680" cy="1973520"/>
          </a:xfrm>
        </p:grpSpPr>
        <p:sp>
          <p:nvSpPr>
            <p:cNvPr id="66" name="Oval 3"/>
            <p:cNvSpPr/>
            <p:nvPr/>
          </p:nvSpPr>
          <p:spPr>
            <a:xfrm>
              <a:off x="3260880" y="3753000"/>
              <a:ext cx="128016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Server on Internet/Intra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1706400" y="3753000"/>
              <a:ext cx="82296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5730120" y="5124600"/>
              <a:ext cx="82296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 flipV="1">
              <a:off x="1889280" y="5216040"/>
              <a:ext cx="91440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7"/>
            <p:cNvSpPr/>
            <p:nvPr/>
          </p:nvSpPr>
          <p:spPr>
            <a:xfrm>
              <a:off x="5638680" y="3608280"/>
              <a:ext cx="91440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8"/>
            <p:cNvSpPr/>
            <p:nvPr/>
          </p:nvSpPr>
          <p:spPr>
            <a:xfrm flipV="1">
              <a:off x="2803680" y="4850640"/>
              <a:ext cx="548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9"/>
            <p:cNvSpPr/>
            <p:nvPr/>
          </p:nvSpPr>
          <p:spPr>
            <a:xfrm flipH="1" flipV="1">
              <a:off x="4541040" y="4759200"/>
              <a:ext cx="118872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0"/>
            <p:cNvSpPr/>
            <p:nvPr/>
          </p:nvSpPr>
          <p:spPr>
            <a:xfrm>
              <a:off x="2529360" y="3935880"/>
              <a:ext cx="73152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1"/>
            <p:cNvSpPr/>
            <p:nvPr/>
          </p:nvSpPr>
          <p:spPr>
            <a:xfrm flipH="1">
              <a:off x="4541040" y="3791160"/>
              <a:ext cx="109728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5:45:58Z</dcterms:created>
  <dc:creator>srik</dc:creator>
  <dc:description/>
  <dc:language>en-US</dc:language>
  <cp:lastModifiedBy>Badra</cp:lastModifiedBy>
  <dcterms:modified xsi:type="dcterms:W3CDTF">2011-04-06T20:06:22Z</dcterms:modified>
  <cp:revision>35</cp:revision>
  <dc:subject/>
  <dc:title>Global Communication Media</dc:title>
</cp:coreProperties>
</file>