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70AB6A-2FA8-4B34-BB69-56C52B0031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51E052-8F7C-4DE5-AB99-686A98D263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FB8632-DCB1-4DAA-AE83-EF4546AC86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333BE7-4867-4FC5-882C-13ABA2AB14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BFD37C-1B72-4778-B051-10E19329D6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78BCC0-2191-4951-8D3C-DC47678123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F7721B-A964-4F36-8C26-D830F75870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E0DD9A-5675-4AEB-B633-C2D09A3BB3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24C54B-56B6-4B81-8889-1194E2AB1D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4DAE51-6CCD-4CB7-A94D-BE002E6E0B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FA5CAA-F668-40E3-BDC0-228454F9AE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A26661-C4C4-4FAE-948D-5E0930E471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EE4D3C-36F3-4E0C-87F5-3F67C29C4B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10E201-D912-4330-9DAC-9D4720B124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C4BD0E-9947-48E1-B088-9545C656C8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26EBAC-2B7E-4113-B6C3-D94BBE9E8B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347406-3F07-4260-AE67-B81CC7C20A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F263D7-E635-46FA-8304-F28C2BCF22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E826DD-6F95-4E97-B2F3-A1B8A81A2E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969846-EA2C-47C3-8354-777065BAF5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B25A33-B44F-4B77-A7D8-83B795ECA4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63767-3356-4075-9C79-27D208202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E79F6-D16C-40CF-980F-A38651867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8FF89-FF9E-4526-9F33-B85D431972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Freeform 5"/>
              <p:cNvSpPr/>
              <p:nvPr/>
            </p:nvSpPr>
            <p:spPr>
              <a:xfrm>
                <a:off x="457200" y="0"/>
                <a:ext cx="2743200" cy="1166760"/>
              </a:xfrm>
              <a:prstGeom prst="pie">
                <a:avLst/>
              </a:pr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922EA-DAE6-4DCA-82C4-42CAE25D10BE}"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FFBE5-5B8F-463F-A7F2-ACD485098E8C}"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1051920" y="975600"/>
            <a:ext cx="7344720" cy="103428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Airline Reservation System</a:t>
            </a:r>
            <a:endParaRPr b="1"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st Estimation Model</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Constructive Cost Model, also known as the COCOMO model ,has been designed in 1981 by Barry Boehm, to give an estimate of number of man months it will take to develop a software product.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odel also estimates the development schedule for the project in months and gives us a schedule distribution for all the major phases of a project.</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st Estimation Model continued</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Airline Reservation System project has an average complexity and fair flexibility. Thus, this project is classified as an organic project under the COCOMO model.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equations as they are modified for the organic projects are as follows:</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ffort = 3.2 * EAF * (Size) ^ 1.05</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ime = 2.5 * (Effort) ^ 0.38 where</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ffort = number of staff months (PM)</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AF = effort adjustment factor</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ize = number of lines of code for completed product. It is measures in KLOC (thousands of lines of code)</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ime = total number of month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st Estimation Model Continued</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ffort = 3.2 * 0.45 * 3.0 ^ 1.05 = 4.56 staff month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ime = 2.5 * 4.56 ^ 0.38 = 4.44 months (development tim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antt Chart</a:t>
            </a:r>
            <a:endParaRPr b="1" lang="en-US" sz="3600" spc="-1" strike="noStrike">
              <a:solidFill>
                <a:srgbClr val="006666"/>
              </a:solidFill>
              <a:latin typeface="Arial"/>
            </a:endParaRPr>
          </a:p>
        </p:txBody>
      </p:sp>
      <p:pic>
        <p:nvPicPr>
          <p:cNvPr id="121" name="Picture 4" descr="12"/>
          <p:cNvPicPr/>
          <p:nvPr/>
        </p:nvPicPr>
        <p:blipFill>
          <a:blip r:embed="rId1"/>
          <a:stretch/>
        </p:blipFill>
        <p:spPr>
          <a:xfrm>
            <a:off x="914400" y="2286000"/>
            <a:ext cx="8229600" cy="3809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rchitecture Elaboration Plan</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vision of the Vision documen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vision of the Project Pla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rchitecture Desig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veloping Prototyp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est Pla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rmal Technical Inspection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rmal Requirements Specificatio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hase 2 Presentation</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ject Plan (Phase 1)</a:t>
            </a:r>
            <a:endParaRPr b="1" lang="en-US" sz="3600" spc="-1" strike="noStrike">
              <a:solidFill>
                <a:srgbClr val="006666"/>
              </a:solidFill>
              <a:latin typeface="Arial"/>
            </a:endParaRPr>
          </a:p>
        </p:txBody>
      </p:sp>
      <p:sp>
        <p:nvSpPr>
          <p:cNvPr id="12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ision Document 1.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ject Plan 1.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ftware Quality Assurance Pla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esentation 1</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ject Plan (Phase 2)</a:t>
            </a:r>
            <a:endParaRPr b="1" lang="en-US" sz="3600" spc="-1" strike="noStrike">
              <a:solidFill>
                <a:srgbClr val="006666"/>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ction items identified during phase I</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ision Document 2.0</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ject Plan 2.0</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rmal Requirement Specification</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rchitecture Design</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est Plan</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rmal Technical Inspection – submitted by two individual MSE student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ecutable Architecture Prototype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hase 2 Presentation</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ject Plan (Phase 3)</a:t>
            </a:r>
            <a:endParaRPr b="1" lang="en-US" sz="3600" spc="-1" strike="noStrike">
              <a:solidFill>
                <a:srgbClr val="006666"/>
              </a:solidFill>
              <a:latin typeface="Arial"/>
            </a:endParaRPr>
          </a:p>
        </p:txBody>
      </p:sp>
      <p:sp>
        <p:nvSpPr>
          <p:cNvPr id="12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ction items identified during phase II</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er Manual</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mponent Desig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ource Cod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ssessment Evalua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ject Evalua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est Result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ference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ormal Technical Inspections - submitted by two individual MSE student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inal MSE presentation</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Questions ?</a:t>
            </a:r>
            <a:endParaRPr b="1"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genda</a:t>
            </a:r>
            <a:endParaRPr b="1" lang="en-US" sz="3600" spc="-1" strike="noStrike">
              <a:solidFill>
                <a:srgbClr val="006666"/>
              </a:solidFill>
              <a:latin typeface="Arial"/>
            </a:endParaRPr>
          </a:p>
        </p:txBody>
      </p:sp>
      <p:sp>
        <p:nvSpPr>
          <p:cNvPr id="9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ject Overview</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e Case Diagram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ystem Functionalit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st Estimation Model</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antt Char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rchitecture Elaboration Pla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ject Pla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Questions</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ject Overview</a:t>
            </a:r>
            <a:endParaRPr b="1" lang="en-US" sz="3600" spc="-1" strike="noStrike">
              <a:solidFill>
                <a:srgbClr val="006666"/>
              </a:solidFill>
              <a:latin typeface="Arial"/>
            </a:endParaRPr>
          </a:p>
        </p:txBody>
      </p:sp>
      <p:sp>
        <p:nvSpPr>
          <p:cNvPr id="9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ain objective of this project is to design and develop an Airline Reservation Syst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project is mainly intended for the customers, who use the airline websites to make reservations on fligh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system will be implemented in C#.NET and SQL Server 2000 will act as the databas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ject Overview continued</a:t>
            </a:r>
            <a:endParaRPr b="1" lang="en-US" sz="3600" spc="-1" strike="noStrike">
              <a:solidFill>
                <a:srgbClr val="006666"/>
              </a:solidFill>
              <a:latin typeface="Arial"/>
            </a:endParaRPr>
          </a:p>
        </p:txBody>
      </p:sp>
      <p:sp>
        <p:nvSpPr>
          <p:cNvPr id="10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ain motivation for the project comes from my interest to learn new technologies, like C# and ASP.NE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reating a web-based online application would give me more experience using these technologi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atabase design was also one of my major objective for choosing this projec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se Case Diagrams</a:t>
            </a:r>
            <a:endParaRPr b="1" lang="en-US" sz="3600" spc="-1" strike="noStrike">
              <a:solidFill>
                <a:srgbClr val="006666"/>
              </a:solidFill>
              <a:latin typeface="Arial"/>
            </a:endParaRPr>
          </a:p>
        </p:txBody>
      </p:sp>
      <p:sp>
        <p:nvSpPr>
          <p:cNvPr id="103"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ustomer Use Case Diagram</a:t>
            </a:r>
            <a:endParaRPr b="0" lang="en-US" sz="2400" spc="-1" strike="noStrike">
              <a:solidFill>
                <a:srgbClr val="003366"/>
              </a:solidFill>
              <a:latin typeface="Arial"/>
            </a:endParaRPr>
          </a:p>
        </p:txBody>
      </p:sp>
      <p:pic>
        <p:nvPicPr>
          <p:cNvPr id="104" name="Picture 7" descr=""/>
          <p:cNvPicPr/>
          <p:nvPr/>
        </p:nvPicPr>
        <p:blipFill>
          <a:blip r:embed="rId1"/>
          <a:stretch/>
        </p:blipFill>
        <p:spPr>
          <a:xfrm>
            <a:off x="4114800" y="2286000"/>
            <a:ext cx="3581280" cy="4191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se Case Diagrams continued</a:t>
            </a:r>
            <a:endParaRPr b="1" lang="en-US" sz="3600" spc="-1" strike="noStrike">
              <a:solidFill>
                <a:srgbClr val="006666"/>
              </a:solidFill>
              <a:latin typeface="Arial"/>
            </a:endParaRPr>
          </a:p>
        </p:txBody>
      </p:sp>
      <p:sp>
        <p:nvSpPr>
          <p:cNvPr id="106" name="PlaceHolder 1"/>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dministrator Use Case Diagram</a:t>
            </a:r>
            <a:endParaRPr b="0" lang="en-US" sz="2400" spc="-1" strike="noStrike">
              <a:solidFill>
                <a:srgbClr val="003366"/>
              </a:solidFill>
              <a:latin typeface="Arial"/>
            </a:endParaRPr>
          </a:p>
        </p:txBody>
      </p:sp>
      <p:pic>
        <p:nvPicPr>
          <p:cNvPr id="107" name="Picture 6" descr=""/>
          <p:cNvPicPr/>
          <p:nvPr/>
        </p:nvPicPr>
        <p:blipFill>
          <a:blip r:embed="rId1"/>
          <a:stretch/>
        </p:blipFill>
        <p:spPr>
          <a:xfrm>
            <a:off x="457200" y="2057400"/>
            <a:ext cx="4038480" cy="4495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ystem Functionality</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functionality for the project is divided among the users and administrators of the Airline Reservation System.</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r Functionalit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dministrator Functionality</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ser Functionality</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ew Registration</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dit personal detail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ogin/Logout</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ook flight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ook motels, packages along with the airline ticket reservation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tact the airline company</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iew the booking instructions online</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dministrator Functionality</a:t>
            </a:r>
            <a:endParaRPr b="1" lang="en-US" sz="36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ogin/Logout</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dd/Delete/Modify customer information</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dd/Delete/Modify flight information</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dd/Delete/Modify package or motel information</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cellation of Reservation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mail Confirmation</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dify details of web-page</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2T02:52:05Z</dcterms:created>
  <dc:creator>Srikaavya</dc:creator>
  <dc:description/>
  <dc:language>en-US</dc:language>
  <cp:lastModifiedBy>Brigade</cp:lastModifiedBy>
  <dcterms:modified xsi:type="dcterms:W3CDTF">2011-09-05T06:01:07Z</dcterms:modified>
  <cp:revision>6</cp:revision>
  <dc:subject/>
  <dc:title>Airline Reservation System</dc:title>
</cp:coreProperties>
</file>